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CE4-25D7-4438-AEF9-C3BD1B60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13E-BFC7-4E0C-86AA-B7DAE101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C0F-F426-4111-BD26-22110067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295-DA0C-466B-8812-73DB4E28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96F8-2663-4EC9-AD5A-CB9464D7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083F-1BD0-4A17-B8D1-80F1D0C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16CC-7023-44E9-8A51-B56A3F6F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A7AA-18C6-4E41-8C16-C10FE1E5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B631-99EF-40C3-8744-BB67EA20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D547-3833-49B0-8FBE-08DA330B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C295-903F-495F-B384-912477FC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102-1EBC-4916-834E-11193811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3769-8190-43FA-9543-D3B567AD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3193-1E0C-4291-B40E-E74D7A96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4E5B-1E50-4832-A662-92AC7329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E391-ED52-4631-BFB8-1A91EC6A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6631-747F-4507-A438-8DB05324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E5F1-19F5-47B9-8329-0D0C36B9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4569-0922-412D-9AE8-51E12165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8502-1CA0-4A7D-AFF4-6B644C53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23CF5-B31C-4B8E-B50D-C7956793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E34A-ED8C-4436-B73F-06A195C3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97F-1A66-4B88-9D53-7D9E6E6B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3534-67F8-4A6E-AFDC-BB3834E3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C135-FE7C-453F-90F9-8C6E82BC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3FCB9-2B96-4EA6-A226-786AB7AB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70B8-E5E4-483B-8D57-DDCBBA81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1A43-95D8-46D5-8F02-B64FCC6B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6FC0-61B6-455D-9FAE-342FEBE1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474B-223F-4F67-B735-D2227DA6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4B8F7-84E7-4199-99A0-E22A328E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39E45-73A7-4CD1-A187-0EF774C5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CF69-48A2-4948-8D36-9D0DF7C6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5CD-BBDF-42D1-B367-43A0A38D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AD886-1B12-4F0D-BF7E-034A5DC2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7DDE-45BB-4283-ADFF-89CF6F4D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2661-97EB-4804-94C4-CA9AEF2C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9375-50A1-4A72-A075-9AB4118D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BE320-7147-42BB-AE9B-7FDB0445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349D-42AD-4A9C-B2BF-54BA79C7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FB06-7C93-431B-B9B7-8E78857C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8E5B-B6BA-4EB1-B713-AEBA602A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5CF1C-EEC3-463B-9210-5CEFA2A5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FD6D6-7493-4AF8-AAEC-787E1A8B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1EA-4276-4540-B153-16A8E1BF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FA09F-0E3F-4FCA-80E0-09F25463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2A1DB-EA07-4B0E-82E5-434EE2D4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72E47-211F-4613-9419-68D3AAB8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A8B36-D10C-4CAF-9A8D-56D8352E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372FF-7D27-4CF6-AAEA-6ACA58D1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6C27F-45AA-42A3-812D-D17D4BDE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82400-F9D9-4E9F-9494-B17D3B47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3ECA2-8D8A-4FE8-8029-35C5B34E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CE87A-5E3D-49D3-BF02-2B2F8A1E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D53E1-CA56-4D15-8A28-6332B74F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B4E-1526-4039-8D5A-D0C486A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AA28-CA36-4528-93D6-3E0305B3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078E-E156-4A31-9FD9-1AFC8FA7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C735D-D61D-492F-BEEE-5A54C53E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32DDB-1260-468E-8241-4C6DD067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266CD-FC1B-4E81-A8B7-4FFE3745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EF2E7-E133-416A-B917-A37785A2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9AFD9-3C23-4ABE-BB40-9A967CA5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896D1-BBC0-4858-8543-BDEED557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E719B-A938-4BF9-BCC9-1F4376B4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7D3D-3211-4180-A90F-1036BE06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A44-6146-4DA5-97E2-6CC8CCEF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E8411-A45F-4FCC-93C4-ABD0751A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72C48-85AC-48E1-8F0B-BFBBFCE4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D0C84-8D33-4EED-959D-979BAD53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2D48B-8C86-4BF1-9DFE-1104DEF1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CFB7F-35E2-46BA-97E9-7DE80B98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606DB-92D7-4254-8A68-8FFFC7A2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FF4E8-3EF0-4C88-96A3-A8BFE03E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FAD2B-1D0E-4179-9ECF-6B5704C0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DFC7F-7B5C-4233-AE6B-7B2A342F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B90A1-2EB9-495E-8140-CDD3E064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D79-8685-4CB7-B969-766DDE5E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5FB85-BE97-4B0A-9A52-C8F7D49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B1FB1-DBBB-40CA-902C-057ECDDC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10D9-82A4-4556-9826-B9A0072C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4F65A-D52A-4329-9FA3-7A2F2A7D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1F978-2835-4E41-990E-88E72B29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DB0-7B28-4710-87E7-96B26A66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6895-55A7-4C12-954C-115963F144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72D2-C55C-4771-9FBF-A4AE05B94C59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EB29-62D8-4C2A-9FDB-7B7E51B8D4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A978-D19C-4470-A4D0-2283A9EBB2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85B1-9215-41F5-8518-77C9E7B894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FA5F-36A4-458E-AAE2-EFB91C3576A6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31C3-62A0-41BC-9941-787FD8E98273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4889520" y="1212840"/>
            <a:ext cx="4125960" cy="277344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3" descr=""/>
          <p:cNvPicPr/>
          <p:nvPr/>
        </p:nvPicPr>
        <p:blipFill>
          <a:blip r:embed="rId2"/>
          <a:stretch/>
        </p:blipFill>
        <p:spPr>
          <a:xfrm>
            <a:off x="371520" y="1212840"/>
            <a:ext cx="4309920" cy="27367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"/>
          <p:cNvSpPr/>
          <p:nvPr/>
        </p:nvSpPr>
        <p:spPr>
          <a:xfrm>
            <a:off x="257040" y="4505400"/>
            <a:ext cx="798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звание проекта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кружность мира перст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агоценный, а мы с том  мире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правленный алмаз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втор проекта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деева Валентина Тимофе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Овал 4"/>
          <p:cNvSpPr/>
          <p:nvPr/>
        </p:nvSpPr>
        <p:spPr>
          <a:xfrm>
            <a:off x="3246480" y="2398680"/>
            <a:ext cx="2438280" cy="149688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Gothic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Овал 5"/>
          <p:cNvSpPr/>
          <p:nvPr/>
        </p:nvSpPr>
        <p:spPr>
          <a:xfrm>
            <a:off x="927000" y="914400"/>
            <a:ext cx="2703600" cy="151128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Треугольники и окруж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Овал 7"/>
          <p:cNvSpPr/>
          <p:nvPr/>
        </p:nvSpPr>
        <p:spPr>
          <a:xfrm>
            <a:off x="6440400" y="2166840"/>
            <a:ext cx="2703600" cy="151128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Центров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Овал 8"/>
          <p:cNvSpPr/>
          <p:nvPr/>
        </p:nvSpPr>
        <p:spPr>
          <a:xfrm>
            <a:off x="2590920" y="4816440"/>
            <a:ext cx="2703240" cy="151128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етырехуголь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" name="Прямая со стрелкой 13"/>
          <p:cNvCxnSpPr>
            <a:stCxn id="407" idx="6"/>
            <a:endCxn id="409" idx="2"/>
          </p:cNvCxnSpPr>
          <p:nvPr/>
        </p:nvCxnSpPr>
        <p:spPr>
          <a:xfrm flipV="1">
            <a:off x="5684400" y="2922120"/>
            <a:ext cx="756360" cy="226080"/>
          </a:xfrm>
          <a:prstGeom prst="straightConnector1">
            <a:avLst/>
          </a:prstGeom>
          <a:ln w="2844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412" name="Прямая со стрелкой 16"/>
          <p:cNvCxnSpPr>
            <a:endCxn id="410" idx="0"/>
          </p:cNvCxnSpPr>
          <p:nvPr/>
        </p:nvCxnSpPr>
        <p:spPr>
          <a:xfrm flipH="1">
            <a:off x="3940920" y="3882600"/>
            <a:ext cx="219960" cy="934200"/>
          </a:xfrm>
          <a:prstGeom prst="straightConnector1">
            <a:avLst/>
          </a:prstGeom>
          <a:ln w="2844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413" name="Прямая со стрелкой 19"/>
          <p:cNvCxnSpPr/>
          <p:nvPr/>
        </p:nvCxnSpPr>
        <p:spPr>
          <a:xfrm flipH="1" flipV="1">
            <a:off x="2980440" y="2306160"/>
            <a:ext cx="491400" cy="410400"/>
          </a:xfrm>
          <a:prstGeom prst="straightConnector1">
            <a:avLst/>
          </a:prstGeom>
          <a:ln w="28440">
            <a:solidFill>
              <a:srgbClr val="ff248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4"/>
          <p:cNvSpPr/>
          <p:nvPr/>
        </p:nvSpPr>
        <p:spPr>
          <a:xfrm>
            <a:off x="676440" y="277920"/>
            <a:ext cx="7860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уголь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озникло понятие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дуга окружности? Хорда? Радиус? Диамет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описанная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вписанная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окружностей можно вписать в треугольник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окружностей можно описать около данного треугольни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Как построить окружность, описанную около остроугольного тре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Как построить окружность, описанную около прямоугольного тре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4"/>
          <p:cNvSpPr/>
          <p:nvPr/>
        </p:nvSpPr>
        <p:spPr>
          <a:xfrm>
            <a:off x="887400" y="728640"/>
            <a:ext cx="7054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ырехуголь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Можно ли вписать окружность в четырёхугольник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В какой четырёхугольник можно вписать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Можно ли вписать окружность в ромб? квадрат? параллелограмм? прямоугольник? трапецию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м свойством обладают стороны четырёхугольника, описанного около окруж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Можно ли описать окружность около четырёх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В каком случае около четырёхугольника можно описать окружност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Можно ли описать окружность около ромба? квадрата? параллелограмма? прямо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апец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Каким свойством обладают углы четырёхугольника, вписанного в окружност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В какой четырёхугольник всегда можно вписать окружность и можно описать около него окруж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4"/>
          <p:cNvSpPr/>
          <p:nvPr/>
        </p:nvSpPr>
        <p:spPr>
          <a:xfrm>
            <a:off x="590400" y="420840"/>
            <a:ext cx="788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нтров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кая точка является центром окружности, вписанной в треугольни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акая точка является центром окружности, описанной около тре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Где находится центр окружности, описанной около остроугольного тре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Где находится центр окружности, описанной около прямоугольного треугольни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Где находится центр окружности, описанной около тупоугольного треугольни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Как найти площадь треугольника, зная только радиус описанной окруж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Как найти площадь треугольника, зная только радиус вписанной окруж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Чему равна площадь многоугольника, описанного около окруж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4"/>
          <p:cNvSpPr/>
          <p:nvPr/>
        </p:nvSpPr>
        <p:spPr>
          <a:xfrm>
            <a:off x="587160" y="2585880"/>
            <a:ext cx="83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Желаю творческих успехов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Группа 10"/>
          <p:cNvGrpSpPr/>
          <p:nvPr/>
        </p:nvGrpSpPr>
        <p:grpSpPr>
          <a:xfrm>
            <a:off x="930240" y="1951200"/>
            <a:ext cx="2559240" cy="2193840"/>
            <a:chOff x="930240" y="1951200"/>
            <a:chExt cx="2559240" cy="2193840"/>
          </a:xfrm>
        </p:grpSpPr>
        <p:sp>
          <p:nvSpPr>
            <p:cNvPr id="305" name="Freeform 11"/>
            <p:cNvSpPr/>
            <p:nvPr/>
          </p:nvSpPr>
          <p:spPr>
            <a:xfrm>
              <a:off x="930240" y="1951200"/>
              <a:ext cx="2559240" cy="2193840"/>
            </a:xfrm>
            <a:prstGeom prst="pie">
              <a:avLst/>
            </a:prstGeom>
            <a:solidFill>
              <a:srgbClr val="00b0f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4"/>
            <p:cNvSpPr/>
            <p:nvPr/>
          </p:nvSpPr>
          <p:spPr>
            <a:xfrm>
              <a:off x="1174680" y="2043000"/>
              <a:ext cx="1933920" cy="1859040"/>
            </a:xfrm>
            <a:prstGeom prst="ellipse">
              <a:avLst/>
            </a:prstGeom>
            <a:solidFill>
              <a:srgbClr val="ff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Группа 8"/>
          <p:cNvGrpSpPr/>
          <p:nvPr/>
        </p:nvGrpSpPr>
        <p:grpSpPr>
          <a:xfrm>
            <a:off x="5293800" y="888840"/>
            <a:ext cx="3531600" cy="3508560"/>
            <a:chOff x="5293800" y="888840"/>
            <a:chExt cx="3531600" cy="3508560"/>
          </a:xfrm>
        </p:grpSpPr>
        <p:sp>
          <p:nvSpPr>
            <p:cNvPr id="308" name="Freeform 15"/>
            <p:cNvSpPr/>
            <p:nvPr/>
          </p:nvSpPr>
          <p:spPr>
            <a:xfrm rot="18847200">
              <a:off x="6080040" y="1133280"/>
              <a:ext cx="1959120" cy="3019680"/>
            </a:xfrm>
            <a:prstGeom prst="pie">
              <a:avLst/>
            </a:prstGeom>
            <a:solidFill>
              <a:srgbClr val="cb3607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4"/>
            <p:cNvSpPr/>
            <p:nvPr/>
          </p:nvSpPr>
          <p:spPr>
            <a:xfrm>
              <a:off x="6437160" y="2309760"/>
              <a:ext cx="1417680" cy="146376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Freeform 10"/>
          <p:cNvSpPr/>
          <p:nvPr/>
        </p:nvSpPr>
        <p:spPr>
          <a:xfrm>
            <a:off x="3776760" y="3559320"/>
            <a:ext cx="2592360" cy="2232000"/>
          </a:xfrm>
          <a:prstGeom prst="pie">
            <a:avLst/>
          </a:prstGeom>
          <a:solidFill>
            <a:srgbClr val="ff569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2"/>
          <p:cNvSpPr/>
          <p:nvPr/>
        </p:nvSpPr>
        <p:spPr>
          <a:xfrm>
            <a:off x="4222800" y="4084560"/>
            <a:ext cx="1538280" cy="14018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solidFill>
            <a:srgbClr val="ff197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entury Gothic"/>
              </a:rPr>
              <a:t>Вписанная окружность. Описанный многоугольник.</a:t>
            </a:r>
            <a:endParaRPr b="0" lang="en-US" sz="4000" spc="-1" strike="noStrike">
              <a:solidFill>
                <a:srgbClr val="ff5c9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11"/>
          <p:cNvSpPr/>
          <p:nvPr/>
        </p:nvSpPr>
        <p:spPr>
          <a:xfrm>
            <a:off x="649440" y="1144440"/>
            <a:ext cx="2414520" cy="2268720"/>
          </a:xfrm>
          <a:prstGeom prst="pie">
            <a:avLst/>
          </a:prstGeom>
          <a:solidFill>
            <a:srgbClr val="4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595440" y="1068480"/>
            <a:ext cx="2482560" cy="2390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3468600" y="3705120"/>
            <a:ext cx="2262240" cy="21621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10"/>
          <p:cNvSpPr/>
          <p:nvPr/>
        </p:nvSpPr>
        <p:spPr>
          <a:xfrm>
            <a:off x="3565440" y="3809880"/>
            <a:ext cx="1905120" cy="1387440"/>
          </a:xfrm>
          <a:prstGeom prst="pie">
            <a:avLst/>
          </a:prstGeom>
          <a:solidFill>
            <a:srgbClr val="e4005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611280" y="3627360"/>
            <a:ext cx="2101680" cy="21178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13"/>
          <p:cNvSpPr/>
          <p:nvPr/>
        </p:nvSpPr>
        <p:spPr>
          <a:xfrm>
            <a:off x="714240" y="3795840"/>
            <a:ext cx="1541520" cy="1293840"/>
          </a:xfrm>
          <a:prstGeom prst="pie">
            <a:avLst/>
          </a:prstGeom>
          <a:solidFill>
            <a:srgbClr val="00b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156360" y="3849840"/>
            <a:ext cx="2271600" cy="2246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15"/>
          <p:cNvSpPr/>
          <p:nvPr/>
        </p:nvSpPr>
        <p:spPr>
          <a:xfrm>
            <a:off x="7068960" y="3884760"/>
            <a:ext cx="1236960" cy="2135160"/>
          </a:xfrm>
          <a:prstGeom prst="pie">
            <a:avLst/>
          </a:prstGeom>
          <a:solidFill>
            <a:srgbClr val="cb360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3825720" y="822240"/>
            <a:ext cx="4540320" cy="230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Описанная окружность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Вписанный многоугольник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"/>
          <p:cNvSpPr/>
          <p:nvPr/>
        </p:nvSpPr>
        <p:spPr>
          <a:xfrm>
            <a:off x="1246320" y="357120"/>
            <a:ext cx="626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 вписать \ описать нам окружность счастья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795240" y="2703600"/>
            <a:ext cx="743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любую ли фигуру можно вписать окружнос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оло какой фигуры можно описать окружнос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Текст 2" descr=""/>
          <p:cNvPicPr/>
          <p:nvPr/>
        </p:nvPicPr>
        <p:blipFill>
          <a:blip r:embed="rId1"/>
          <a:stretch/>
        </p:blipFill>
        <p:spPr>
          <a:xfrm>
            <a:off x="176040" y="493560"/>
            <a:ext cx="1890720" cy="1695600"/>
          </a:xfrm>
          <a:prstGeom prst="rect">
            <a:avLst/>
          </a:prstGeom>
          <a:ln w="0">
            <a:noFill/>
          </a:ln>
        </p:spPr>
      </p:pic>
      <p:pic>
        <p:nvPicPr>
          <p:cNvPr id="325" name="Текст 3" descr=""/>
          <p:cNvPicPr/>
          <p:nvPr/>
        </p:nvPicPr>
        <p:blipFill>
          <a:blip r:embed="rId2"/>
          <a:stretch/>
        </p:blipFill>
        <p:spPr>
          <a:xfrm>
            <a:off x="244440" y="3786120"/>
            <a:ext cx="1919160" cy="15606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022480" y="290160"/>
            <a:ext cx="68580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Многоугольник называется </a:t>
            </a: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описанным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коло окружности, если 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А окружность - </a:t>
            </a: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вписанно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239920" y="3489480"/>
            <a:ext cx="6640560" cy="29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кружность называется </a:t>
            </a: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описанной около много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, если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Многоугольник - </a:t>
            </a: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вписанны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28" name="Группа 9"/>
          <p:cNvGrpSpPr/>
          <p:nvPr/>
        </p:nvGrpSpPr>
        <p:grpSpPr>
          <a:xfrm>
            <a:off x="6583320" y="1387440"/>
            <a:ext cx="1859040" cy="1630440"/>
            <a:chOff x="6583320" y="1387440"/>
            <a:chExt cx="1859040" cy="1630440"/>
          </a:xfrm>
        </p:grpSpPr>
        <p:sp>
          <p:nvSpPr>
            <p:cNvPr id="329" name="Oval 5"/>
            <p:cNvSpPr/>
            <p:nvPr/>
          </p:nvSpPr>
          <p:spPr>
            <a:xfrm>
              <a:off x="6744960" y="1455480"/>
              <a:ext cx="1500480" cy="1393920"/>
            </a:xfrm>
            <a:prstGeom prst="ellipse">
              <a:avLst/>
            </a:prstGeom>
            <a:solidFill>
              <a:srgbClr val="87bbff"/>
            </a:solidFill>
            <a:ln w="38160">
              <a:solidFill>
                <a:srgbClr val="ffffff"/>
              </a:solidFill>
              <a:miter/>
            </a:ln>
            <a:effectLst>
              <a:outerShdw dist="25445" dir="1469311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6"/>
            <p:cNvSpPr/>
            <p:nvPr/>
          </p:nvSpPr>
          <p:spPr>
            <a:xfrm>
              <a:off x="6583320" y="1387440"/>
              <a:ext cx="1859040" cy="1630440"/>
            </a:xfrm>
            <a:prstGeom prst="pie">
              <a:avLst/>
            </a:prstGeom>
            <a:noFill/>
            <a:ln w="38160">
              <a:solidFill>
                <a:srgbClr val="cb36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Freeform 6"/>
          <p:cNvSpPr/>
          <p:nvPr/>
        </p:nvSpPr>
        <p:spPr>
          <a:xfrm>
            <a:off x="7010280" y="4754520"/>
            <a:ext cx="1737000" cy="1676520"/>
          </a:xfrm>
          <a:prstGeom prst="pie">
            <a:avLst/>
          </a:prstGeom>
          <a:solidFill>
            <a:srgbClr val="ff88ba"/>
          </a:solidFill>
          <a:ln w="38160">
            <a:solidFill>
              <a:srgbClr val="ff88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6789600" y="4564080"/>
            <a:ext cx="2019600" cy="1989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33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41360" y="1310760"/>
            <a:ext cx="403848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т чего равноудален центр вписанной в треугольник окружности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8320" y="126684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т чего равноудален центр  окружности, описанной около треугольника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5151600" y="4017960"/>
            <a:ext cx="2452680" cy="23367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Freeform 6"/>
          <p:cNvSpPr/>
          <p:nvPr/>
        </p:nvSpPr>
        <p:spPr>
          <a:xfrm>
            <a:off x="5400720" y="4025880"/>
            <a:ext cx="2127240" cy="1887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8"/>
          <p:cNvSpPr/>
          <p:nvPr/>
        </p:nvSpPr>
        <p:spPr>
          <a:xfrm flipH="1" flipV="1">
            <a:off x="6365160" y="5104800"/>
            <a:ext cx="111240" cy="106200"/>
          </a:xfrm>
          <a:prstGeom prst="ellipse">
            <a:avLst/>
          </a:prstGeom>
          <a:solidFill>
            <a:srgbClr val="cb36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10"/>
          <p:cNvSpPr/>
          <p:nvPr/>
        </p:nvSpPr>
        <p:spPr>
          <a:xfrm flipV="1">
            <a:off x="6420600" y="4054320"/>
            <a:ext cx="39960" cy="1051200"/>
          </a:xfrm>
          <a:prstGeom prst="line">
            <a:avLst/>
          </a:prstGeom>
          <a:ln w="2844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ая соединительная линия 13"/>
          <p:cNvSpPr/>
          <p:nvPr/>
        </p:nvSpPr>
        <p:spPr>
          <a:xfrm>
            <a:off x="6460560" y="5195880"/>
            <a:ext cx="1128600" cy="184320"/>
          </a:xfrm>
          <a:prstGeom prst="line">
            <a:avLst/>
          </a:prstGeom>
          <a:ln w="2844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ая соединительная линия 15"/>
          <p:cNvSpPr/>
          <p:nvPr/>
        </p:nvSpPr>
        <p:spPr>
          <a:xfrm flipH="1">
            <a:off x="5380200" y="5195880"/>
            <a:ext cx="1001520" cy="731880"/>
          </a:xfrm>
          <a:prstGeom prst="line">
            <a:avLst/>
          </a:prstGeom>
          <a:ln w="2844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1398600" y="4491000"/>
            <a:ext cx="1512720" cy="1468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669960" y="3736800"/>
            <a:ext cx="2805120" cy="271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Овал 21"/>
          <p:cNvSpPr/>
          <p:nvPr/>
        </p:nvSpPr>
        <p:spPr>
          <a:xfrm>
            <a:off x="2087640" y="5181480"/>
            <a:ext cx="106200" cy="106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ая соединительная линия 25"/>
          <p:cNvSpPr/>
          <p:nvPr/>
        </p:nvSpPr>
        <p:spPr>
          <a:xfrm>
            <a:off x="2149560" y="5234760"/>
            <a:ext cx="272880" cy="78444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ая соединительная линия 30"/>
          <p:cNvSpPr/>
          <p:nvPr/>
        </p:nvSpPr>
        <p:spPr>
          <a:xfrm flipV="1">
            <a:off x="2179080" y="4861080"/>
            <a:ext cx="639720" cy="33624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32"/>
          <p:cNvSpPr/>
          <p:nvPr/>
        </p:nvSpPr>
        <p:spPr>
          <a:xfrm>
            <a:off x="1477800" y="4998960"/>
            <a:ext cx="702000" cy="27324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олилиния 47"/>
          <p:cNvSpPr/>
          <p:nvPr/>
        </p:nvSpPr>
        <p:spPr>
          <a:xfrm>
            <a:off x="1539720" y="4861080"/>
            <a:ext cx="182880" cy="1774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олилиния 48"/>
          <p:cNvSpPr/>
          <p:nvPr/>
        </p:nvSpPr>
        <p:spPr>
          <a:xfrm>
            <a:off x="2346480" y="5821200"/>
            <a:ext cx="190440" cy="106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олилиния 49"/>
          <p:cNvSpPr/>
          <p:nvPr/>
        </p:nvSpPr>
        <p:spPr>
          <a:xfrm>
            <a:off x="2590920" y="4724280"/>
            <a:ext cx="136440" cy="212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322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0" y="102024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де находится центр окружности, вписанной в треугольник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48320" y="960480"/>
            <a:ext cx="4038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де находится центр окружности, описанной около треугольника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Line 2"/>
          <p:cNvSpPr/>
          <p:nvPr/>
        </p:nvSpPr>
        <p:spPr>
          <a:xfrm flipH="1">
            <a:off x="5448240" y="4573440"/>
            <a:ext cx="1216080" cy="166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3"/>
          <p:cNvSpPr/>
          <p:nvPr/>
        </p:nvSpPr>
        <p:spPr>
          <a:xfrm flipH="1" flipV="1">
            <a:off x="5874840" y="4235400"/>
            <a:ext cx="2079720" cy="889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 flipV="1">
            <a:off x="6226200" y="3708360"/>
            <a:ext cx="2016000" cy="1077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"/>
          <p:cNvSpPr/>
          <p:nvPr/>
        </p:nvSpPr>
        <p:spPr>
          <a:xfrm>
            <a:off x="6551640" y="4260960"/>
            <a:ext cx="600120" cy="166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 flipV="1">
            <a:off x="6664320" y="2606400"/>
            <a:ext cx="351000" cy="19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6664320" y="4560840"/>
            <a:ext cx="1916280" cy="6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4659480" y="2556000"/>
            <a:ext cx="4082760" cy="4082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reeform 10"/>
          <p:cNvSpPr/>
          <p:nvPr/>
        </p:nvSpPr>
        <p:spPr>
          <a:xfrm>
            <a:off x="5430960" y="2593800"/>
            <a:ext cx="3168360" cy="364500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11"/>
          <p:cNvSpPr/>
          <p:nvPr/>
        </p:nvSpPr>
        <p:spPr>
          <a:xfrm>
            <a:off x="6613560" y="4522680"/>
            <a:ext cx="112680" cy="88920"/>
          </a:xfrm>
          <a:prstGeom prst="ellipse">
            <a:avLst/>
          </a:prstGeom>
          <a:solidFill>
            <a:srgbClr val="cb36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2"/>
          <p:cNvSpPr/>
          <p:nvPr/>
        </p:nvSpPr>
        <p:spPr>
          <a:xfrm>
            <a:off x="5837400" y="4973760"/>
            <a:ext cx="174600" cy="8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3"/>
          <p:cNvSpPr/>
          <p:nvPr/>
        </p:nvSpPr>
        <p:spPr>
          <a:xfrm>
            <a:off x="6451560" y="3621240"/>
            <a:ext cx="123840" cy="6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14"/>
          <p:cNvSpPr/>
          <p:nvPr/>
        </p:nvSpPr>
        <p:spPr>
          <a:xfrm flipV="1">
            <a:off x="7327800" y="3220920"/>
            <a:ext cx="20016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5"/>
          <p:cNvSpPr/>
          <p:nvPr/>
        </p:nvSpPr>
        <p:spPr>
          <a:xfrm flipV="1">
            <a:off x="7367760" y="3274920"/>
            <a:ext cx="19980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 flipV="1">
            <a:off x="7954920" y="4248000"/>
            <a:ext cx="20016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 flipV="1">
            <a:off x="7994520" y="4302000"/>
            <a:ext cx="20016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6137280" y="5875200"/>
            <a:ext cx="8892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19"/>
          <p:cNvSpPr/>
          <p:nvPr/>
        </p:nvSpPr>
        <p:spPr>
          <a:xfrm>
            <a:off x="6203880" y="5865840"/>
            <a:ext cx="88920" cy="23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20"/>
          <p:cNvSpPr/>
          <p:nvPr/>
        </p:nvSpPr>
        <p:spPr>
          <a:xfrm>
            <a:off x="6278400" y="5840280"/>
            <a:ext cx="8892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1"/>
          <p:cNvSpPr/>
          <p:nvPr/>
        </p:nvSpPr>
        <p:spPr>
          <a:xfrm>
            <a:off x="7602480" y="5398920"/>
            <a:ext cx="8892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2"/>
          <p:cNvSpPr/>
          <p:nvPr/>
        </p:nvSpPr>
        <p:spPr>
          <a:xfrm>
            <a:off x="7669080" y="5389560"/>
            <a:ext cx="88920" cy="23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>
            <a:off x="7743960" y="5364000"/>
            <a:ext cx="8892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24"/>
          <p:cNvSpPr/>
          <p:nvPr/>
        </p:nvSpPr>
        <p:spPr>
          <a:xfrm>
            <a:off x="6288120" y="4248000"/>
            <a:ext cx="187200" cy="225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reeform 25"/>
          <p:cNvSpPr/>
          <p:nvPr/>
        </p:nvSpPr>
        <p:spPr>
          <a:xfrm>
            <a:off x="7666200" y="4022640"/>
            <a:ext cx="237960" cy="1364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26"/>
          <p:cNvSpPr/>
          <p:nvPr/>
        </p:nvSpPr>
        <p:spPr>
          <a:xfrm>
            <a:off x="6989760" y="5411880"/>
            <a:ext cx="274680" cy="201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1322280" y="3713040"/>
            <a:ext cx="1513080" cy="146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6"/>
          <p:cNvSpPr/>
          <p:nvPr/>
        </p:nvSpPr>
        <p:spPr>
          <a:xfrm>
            <a:off x="593640" y="2959200"/>
            <a:ext cx="2805120" cy="270972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Овал 30"/>
          <p:cNvSpPr/>
          <p:nvPr/>
        </p:nvSpPr>
        <p:spPr>
          <a:xfrm>
            <a:off x="2011320" y="4403880"/>
            <a:ext cx="1382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ая соединительная линия 31"/>
          <p:cNvSpPr/>
          <p:nvPr/>
        </p:nvSpPr>
        <p:spPr>
          <a:xfrm>
            <a:off x="2079000" y="4556160"/>
            <a:ext cx="236520" cy="57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ая соединительная линия 32"/>
          <p:cNvSpPr/>
          <p:nvPr/>
        </p:nvSpPr>
        <p:spPr>
          <a:xfrm flipV="1">
            <a:off x="2127960" y="4084560"/>
            <a:ext cx="614520" cy="34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ая соединительная линия 33"/>
          <p:cNvSpPr/>
          <p:nvPr/>
        </p:nvSpPr>
        <p:spPr>
          <a:xfrm>
            <a:off x="1447920" y="4084560"/>
            <a:ext cx="583920" cy="34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олилиния 35"/>
          <p:cNvSpPr/>
          <p:nvPr/>
        </p:nvSpPr>
        <p:spPr>
          <a:xfrm>
            <a:off x="2270160" y="5045040"/>
            <a:ext cx="190440" cy="10656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олилиния 36"/>
          <p:cNvSpPr/>
          <p:nvPr/>
        </p:nvSpPr>
        <p:spPr>
          <a:xfrm>
            <a:off x="2514600" y="3946680"/>
            <a:ext cx="136440" cy="2142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ая соединительная линия 40"/>
          <p:cNvSpPr/>
          <p:nvPr/>
        </p:nvSpPr>
        <p:spPr>
          <a:xfrm flipV="1">
            <a:off x="609480" y="3870360"/>
            <a:ext cx="2041560" cy="1798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ая соединительная линия 42"/>
          <p:cNvSpPr/>
          <p:nvPr/>
        </p:nvSpPr>
        <p:spPr>
          <a:xfrm flipH="1" flipV="1">
            <a:off x="1996920" y="2955960"/>
            <a:ext cx="120960" cy="2271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ая соединительная линия 44"/>
          <p:cNvSpPr/>
          <p:nvPr/>
        </p:nvSpPr>
        <p:spPr>
          <a:xfrm>
            <a:off x="1325520" y="4145040"/>
            <a:ext cx="2027160" cy="747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Полилиния 52"/>
          <p:cNvSpPr/>
          <p:nvPr/>
        </p:nvSpPr>
        <p:spPr>
          <a:xfrm>
            <a:off x="853920" y="5197320"/>
            <a:ext cx="182880" cy="9072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олилиния 53"/>
          <p:cNvSpPr/>
          <p:nvPr/>
        </p:nvSpPr>
        <p:spPr>
          <a:xfrm>
            <a:off x="1173240" y="5211720"/>
            <a:ext cx="110880" cy="25884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олилиния 54"/>
          <p:cNvSpPr/>
          <p:nvPr/>
        </p:nvSpPr>
        <p:spPr>
          <a:xfrm>
            <a:off x="1905120" y="3200400"/>
            <a:ext cx="75960" cy="3636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олилиния 55"/>
          <p:cNvSpPr/>
          <p:nvPr/>
        </p:nvSpPr>
        <p:spPr>
          <a:xfrm>
            <a:off x="1874880" y="3306600"/>
            <a:ext cx="106200" cy="2232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олилиния 56"/>
          <p:cNvSpPr/>
          <p:nvPr/>
        </p:nvSpPr>
        <p:spPr>
          <a:xfrm>
            <a:off x="2041560" y="3398760"/>
            <a:ext cx="244440" cy="8100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олилиния 57"/>
          <p:cNvSpPr/>
          <p:nvPr/>
        </p:nvSpPr>
        <p:spPr>
          <a:xfrm>
            <a:off x="2041560" y="3368520"/>
            <a:ext cx="214200" cy="36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олилиния 58"/>
          <p:cNvSpPr/>
          <p:nvPr/>
        </p:nvSpPr>
        <p:spPr>
          <a:xfrm>
            <a:off x="3213000" y="4754520"/>
            <a:ext cx="63720" cy="10656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олилиния 60"/>
          <p:cNvSpPr/>
          <p:nvPr/>
        </p:nvSpPr>
        <p:spPr>
          <a:xfrm>
            <a:off x="3094200" y="4618080"/>
            <a:ext cx="90360" cy="20304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олилиния 61"/>
          <p:cNvSpPr/>
          <p:nvPr/>
        </p:nvSpPr>
        <p:spPr>
          <a:xfrm>
            <a:off x="3041640" y="4572000"/>
            <a:ext cx="52560" cy="19836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олилиния 62"/>
          <p:cNvSpPr/>
          <p:nvPr/>
        </p:nvSpPr>
        <p:spPr>
          <a:xfrm>
            <a:off x="2927520" y="4740120"/>
            <a:ext cx="74520" cy="27324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олилиния 63"/>
          <p:cNvSpPr/>
          <p:nvPr/>
        </p:nvSpPr>
        <p:spPr>
          <a:xfrm>
            <a:off x="3021120" y="4784760"/>
            <a:ext cx="56880" cy="19836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олилиния 64"/>
          <p:cNvSpPr/>
          <p:nvPr/>
        </p:nvSpPr>
        <p:spPr>
          <a:xfrm>
            <a:off x="3124080" y="4830840"/>
            <a:ext cx="23760" cy="122040"/>
          </a:xfrm>
          <a:prstGeom prst="pi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олилиния 67"/>
          <p:cNvSpPr/>
          <p:nvPr/>
        </p:nvSpPr>
        <p:spPr>
          <a:xfrm>
            <a:off x="1352520" y="4160880"/>
            <a:ext cx="231840" cy="18108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8480520" cy="14079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6840" y="1722240"/>
            <a:ext cx="4087800" cy="18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любом описанном четырехугольнике 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7960" y="1722240"/>
            <a:ext cx="40590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любом вписанном четырехугольнике 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642960" y="389556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эти и многие другие вопросы мы вы сможете найти ответ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4"/>
          <p:cNvSpPr/>
          <p:nvPr/>
        </p:nvSpPr>
        <p:spPr>
          <a:xfrm>
            <a:off x="609480" y="387360"/>
            <a:ext cx="7177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дать понятие вписанной окруж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дать понятие описанной окруж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йти центр описанной \ вписанной в треугольник окруж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йти радиус описанной \ вписанной окружности в треугольни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определить, около каких многоугольников можно описать окруж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определить в какие многоугольники можно вписать окруж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продемонстрировать, как описать или вписать окружность в треугольник или многоуголь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амостоятельно исследовать любую другую пробле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зентовать свою исследовательскую работу перед сверстниками, родителями, учите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работать коллективно, разделяя роли в команде и отвечать за результаты своего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6:15:51Z</dcterms:created>
  <dc:creator>Пользователь</dc:creator>
  <dc:description/>
  <dc:language>en-US</dc:language>
  <cp:lastModifiedBy>Поздеева Валентина Тимофеевна</cp:lastModifiedBy>
  <dcterms:modified xsi:type="dcterms:W3CDTF">2010-04-30T10:27:09Z</dcterms:modified>
  <cp:revision>31</cp:revision>
  <dc:subject/>
  <dc:title>Описанная окружность</dc:title>
</cp:coreProperties>
</file>